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124-88C3-458B-AA65-815A8358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E58-0F56-4484-8F7E-55B67D3D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1B57-B648-43AB-B7DC-7B00E21C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303-D869-4F17-8B46-4D90AC18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B38F-D799-4C21-B533-3487F294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3D78-8C10-431C-AFFE-66DB18EA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56FC-FF61-4DF1-825C-914CE69F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FEE0-6E8D-4332-958F-457C8179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773B-C734-44B7-A1AB-90B2FA3D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8E3F-043B-4EB7-89A6-1E22735B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A94F-1B14-4157-8BAC-693A2C7A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75B-4704-4482-B41C-0E2CF4FF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4DA5-3C95-40D7-9C46-90D650F2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7FC7-BA2E-4A53-B6A2-D42B15F9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D2A0-0E4C-4C68-96F4-73D36AE7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1ABB-10EC-43B9-9C66-9EEB4968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2661-9E19-4CB5-8993-1AA0E143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DAC-2ABB-4BDE-AA42-5916F44D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EB0-0A63-421A-B32B-743E0C94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112-46DE-4F48-BA45-AD8A47BE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63E-3C8D-4787-BB20-1ECC0E01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6883-9255-46EC-B0B0-438446A0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BA3-DBD1-467F-BA88-56EC332E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D0C-89EA-4CE5-8845-31422693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8DE4-9089-4F21-B8D5-8B10EBB268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EF22-C2C8-4120-95B8-148859B4FF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Genesis 31 – 33:17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cob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pplanter In Beersheba – 25:19 – 28: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irth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les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rvant In Padan-Aram – 28:10 – 30:4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hel – House of God  28:10-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h and Rachel; Lab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Haran To Hebron -31:1 – 35:2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cob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 Meeting and Covenant of Jacob and Laban – 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hanaim –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eting with the ang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ations to meet Es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iel – 32:22 – 33: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estling with Angel – 32:22-3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eting with Esau – 33:1-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23:19:49Z</dcterms:created>
  <dc:creator>Terry W. Benton</dc:creator>
  <dc:description/>
  <dc:language>en-US</dc:language>
  <cp:lastModifiedBy>Terry W. Benton</cp:lastModifiedBy>
  <dcterms:modified xsi:type="dcterms:W3CDTF">2004-09-04T23:36:45Z</dcterms:modified>
  <cp:revision>2</cp:revision>
  <dc:subject/>
  <dc:title>Genesis 31 – 33:17</dc:title>
</cp:coreProperties>
</file>